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A2E-2E87-4ED5-ABAB-F5ECEBD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29BB-7422-4361-8EAA-DF4AE52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40F-B507-44AF-A7CE-F5A2A965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D88-FC17-46E8-85D8-485E1449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117-78E5-445A-AB1F-EB71482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828-5B33-4581-9677-0CD6EC7B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E44-EC65-4C83-9882-B6E3DB83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0C1-ADB0-4AE0-9B96-94389D72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C4D-B04A-4215-A1B7-94ADB65D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03C-7E45-44EF-8B4F-5CD4B60D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E64-4730-47CF-A7EB-8FD2259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599-A3D6-4ABB-AF00-83F869B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BCB-544E-4EF0-8822-7C8B80BE024D}" type="slidenum"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sche Funk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progra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101-8D68-4108-914F-38B594355E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C84-C733-4C89-8BE6-4D07D84C96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23623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036-203A-4E50-8687-2620FDB069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8AA-E079-4F56-9EA0-6186534DB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2362320" y="24382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814-F138-42A8-9DBA-67A0AF7EB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2DD-C03D-4B23-BC50-FFB83D415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>
            <a:off x="2362320" y="365760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C18-D04D-40CE-8E61-7A53D56CA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B90-723A-46FF-803A-E2F7101779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2362320" y="17524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111-382D-48D6-B6DF-50205CE04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48C-1E6D-454C-A263-04776C5FD8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2362320" y="426708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7B1-FEF7-4A82-8E17-F328CF5ED0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743200"/>
            <a:ext cx="3352680" cy="22096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Menüpunkt „Fenst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n man die Anzei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Graphik-Fen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5562720" y="533520"/>
            <a:ext cx="304560" cy="22096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3200400" cy="23623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neue Da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t zunächst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28600" y="838080"/>
            <a:ext cx="533520" cy="1447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1523880"/>
            <a:ext cx="586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s Algebra-Fenster von Deriv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619-F3CB-4FEF-B90C-96D4244E7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x²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+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die Funktion   y = x² auf der y-Achse verscho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cheitel der Funktion liegt im Punkt       S (0 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Funktion hat den kleinsten Funktionswert be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ymmetrieachse ist die y-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eine Normalpar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3F0-52D8-4D2A-8141-0E1A338E3D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(x + d)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001-3876-4DFF-8477-8EA7B0C83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603-B48E-46C7-8178-BE8CDE64A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228600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A9D-747C-4841-8F1A-B8268E471D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AA8-6C11-436B-82F6-D8236B103A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19051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AA3-516F-460F-AC6F-C588A7617D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C34-DF64-43B7-8930-0ED77879DD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274320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055-CB6B-48AB-BABD-C269BAF6BB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4A8-5AF2-4324-8846-D6E705ECD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1065960" y="3048120"/>
            <a:ext cx="129564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27F-A83B-4F4B-921E-FDDDE9D4A2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9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27432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ßerdem lassen s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k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kal nebenein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200400" y="533520"/>
            <a:ext cx="2666880" cy="22096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752480"/>
            <a:ext cx="6486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s 2-D-Graphikfenster von Deriv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49B-B83F-42B7-8655-6723C81455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45D-7E12-45D9-AE1F-2DEFCAF73B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580560" y="3048120"/>
            <a:ext cx="129564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BF9-7AD4-4733-9CBD-92193DF126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(x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+ 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die Funktion   y = x² auf der x-Achse verscho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Scheitel der Funktion liegt im Punkt       S 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Funktion hat die Nullstelle be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e Symmetrieachse ist eine Parallele durch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–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ur y-Ach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eine Normalpar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73B-CC38-45EA-B456-2E441D62AA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a x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979-D704-4D33-A8FD-AE7B3EC226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D32-939E-4AE7-8C2E-C659EC5983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2362320" y="3048120"/>
            <a:ext cx="1295280" cy="457200"/>
          </a:xfrm>
          <a:prstGeom prst="lightningBolt">
            <a:avLst/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791-D0E5-455D-81BB-D8B4126460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269-87BB-40F4-BCEC-8641E6C1CE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0920" y="18288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187-8933-4BAF-8707-726D77FA77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25A-0C47-4F9D-9C0B-14A418156E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0843800">
            <a:off x="2742480" y="182844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3A9-1F65-4F13-84DA-921BA5F988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3886200"/>
            <a:ext cx="3476880" cy="17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1371600"/>
            <a:ext cx="3733920" cy="2438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chseneinteilung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rdinaten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sst sich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Menü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llen / Zeichen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l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207880" y="531720"/>
            <a:ext cx="2590920" cy="13716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429000"/>
            <a:ext cx="838080" cy="1600200"/>
          </a:xfrm>
          <a:custGeom>
            <a:avLst/>
            <a:gdLst>
              <a:gd name="textAreaLeft" fmla="*/ 112320 w 838080"/>
              <a:gd name="textAreaRight" fmla="*/ 725760 w 8380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9ED-B9D2-4787-8A03-979EE8F54F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4B1-23D6-4765-9A9A-C4F85BD943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6143600">
            <a:off x="1981080" y="3733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046-3D27-42D3-8E8C-3A361BAD29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CC8-6080-454C-85B0-5CE1ED15DC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90920" y="47242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3C0-BCAF-4774-AD61-C8D1FE1287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FD0-EB26-4093-B85D-4D6415B14D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0843800">
            <a:off x="2666160" y="472356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1CE-2F93-4774-95AD-FBB351CF78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x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ch den Paramet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rd Form der Parabel verändert, nicht die 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 a positiv und kleiner als 1, wird die Parabel gestaucht, größer als 1 gestrec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 a negativ öffnet sich die Parabel nach 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 Graph is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keine Normalpar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nn a ungleich 1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6AD-6DBE-4951-A482-F0F984FF44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1752480"/>
            <a:ext cx="3200400" cy="2057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Eingabez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d der Funktions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e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chließend „Ent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üc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23880" y="3809880"/>
            <a:ext cx="3733920" cy="2438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917-2308-4672-9031-810F64477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905120" y="1752120"/>
            <a:ext cx="3352680" cy="44960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1752480"/>
            <a:ext cx="3048120" cy="190512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Funktionsgle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cheint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-Fen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5F6-15B5-43E4-94A2-3B71450D26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1523520" y="838080"/>
            <a:ext cx="3505320" cy="19051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2209680"/>
            <a:ext cx="3657600" cy="3200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 einem Klick 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k-Fen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sst sich über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leiste (oder ü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Menüpun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ügen /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Graph der 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009-84AE-456E-A56B-5DDF56933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8440" y="-23760"/>
            <a:ext cx="9200880" cy="69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562720" y="2133720"/>
            <a:ext cx="25905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Funktionsgleichung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95480" y="2666880"/>
            <a:ext cx="113364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raph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2E9-7A66-44B6-B23A-CB1815375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e Quadratische Funk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x² +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9D6-5FCA-4644-B943-27C79F917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16:33:44Z</dcterms:created>
  <dc:creator>J. Nürnberger</dc:creator>
  <dc:description/>
  <dc:language>en-US</dc:language>
  <cp:lastModifiedBy>J. Nürnberger</cp:lastModifiedBy>
  <dcterms:modified xsi:type="dcterms:W3CDTF">2004-10-31T19:14:58Z</dcterms:modified>
  <cp:revision>29</cp:revision>
  <dc:subject/>
  <dc:title>Quadratische Funktionen</dc:title>
</cp:coreProperties>
</file>